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FBE9-102D-4E34-82B4-B84F14F659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CDDF-F82F-4533-A544-660711F900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C9E2-C625-499A-9FC4-89CA69058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3D4D-E21F-4BB5-915E-81340E17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A10D-09E3-4E30-A2FE-60F7C3E1E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E527-2EC3-4F10-9867-9471E0A26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2EE4B-3507-43B7-B7E3-3179592412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04426-5E4A-4AAB-AC72-63DB78057C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92FEA-4892-4F30-A05A-F297A71E19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08813-FC72-4AB4-9CC5-FE4EE4EE7A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F5277-A371-499E-8EE9-313423BCD0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3F63DE-9ABA-47AB-9A43-161DBCF789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4DE481-1D30-4FDD-9DE7-BD0BD8437C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6044-7E86-4805-83B3-BFD9AC02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612F13-56F1-42C4-9F35-40AD0669E0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C1D71-F439-41B0-A02D-38924D6FF1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CDA113-2E7F-4855-B834-D7385ADFC0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867704-8D28-4361-8829-9311B3FA13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830FA-3EB7-4D68-99A4-3B7D64A7188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7E9DB9-F8C1-454C-9AF6-B83B477DE8F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6691D1-E985-4731-916F-423FD2A3091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A99E52-2D4D-401F-95EE-6223DE05F06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94372F-91BB-40AB-B2F6-A43491C6379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FD19ED-1971-468F-830E-BF957B054B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914C-0304-4306-B74C-4226B6A5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F71C36-C2FB-47ED-8176-93702C65581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0915E5-46B2-4858-9E3D-AE3C10DB6F2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F2B9A5-8949-4FC1-AB4E-3F145B2EE59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3BDDA0-1043-4D17-93C2-24900B272FD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17E227-21BD-4D4A-9558-FC07C3AE865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0BD11B-5FC0-42E0-A283-ABDA61797CB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CD45E8-EB2B-401A-AF69-AA4157DC5D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4EE4-642F-4738-B4E7-738F39F7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7474-30DD-49A3-9D6C-A49A6838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23E0-EC46-4900-A9E8-625758AD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8C1F-BF79-4483-B0A5-90E62E72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3C83-C6C4-483A-86C8-38CB01DC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B4D7-32FE-48C4-9309-226E145F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3FDB-6FB8-4F9D-953C-F9799A40AF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C3029D9A-AB58-402F-9CEB-B482E53F1A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-</a:t>
            </a:r>
            <a:fld id="{BCF30CF4-3B23-4845-8D6D-31BAD503A8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9-</a:t>
            </a:r>
            <a:fld id="{E8B1CFCD-4139-4B51-83A9-72A695BBFE0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19080" y="99720"/>
            <a:ext cx="914400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lexion, Extension and Hyperexten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19"/>
          <p:cNvSpPr/>
          <p:nvPr/>
        </p:nvSpPr>
        <p:spPr>
          <a:xfrm>
            <a:off x="1530360" y="4354560"/>
            <a:ext cx="203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gure 9.12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0"/>
          <p:cNvSpPr/>
          <p:nvPr/>
        </p:nvSpPr>
        <p:spPr>
          <a:xfrm>
            <a:off x="3243240" y="6012000"/>
            <a:ext cx="203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gure 9.12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sal25693_09_12c"/>
          <p:cNvPicPr/>
          <p:nvPr/>
        </p:nvPicPr>
        <p:blipFill>
          <a:blip r:embed="rId1"/>
          <a:stretch/>
        </p:blipFill>
        <p:spPr>
          <a:xfrm>
            <a:off x="803160" y="1197000"/>
            <a:ext cx="3768840" cy="2994120"/>
          </a:xfrm>
          <a:prstGeom prst="rect">
            <a:avLst/>
          </a:prstGeom>
          <a:ln w="0">
            <a:noFill/>
          </a:ln>
        </p:spPr>
      </p:pic>
      <p:sp>
        <p:nvSpPr>
          <p:cNvPr id="133" name="TextBox 24"/>
          <p:cNvSpPr/>
          <p:nvPr/>
        </p:nvSpPr>
        <p:spPr>
          <a:xfrm>
            <a:off x="127080" y="1027080"/>
            <a:ext cx="4917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  <a:ea typeface="Arial"/>
              </a:rPr>
              <a:t>Copyright © The McGraw-Hill Companies, Inc. Permission required for reproduction or display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827280" y="4111560"/>
            <a:ext cx="133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1032120" y="2558880"/>
            <a:ext cx="378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Flex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2656080" y="3892680"/>
            <a:ext cx="834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Hyperexten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4"/>
          <p:cNvSpPr/>
          <p:nvPr/>
        </p:nvSpPr>
        <p:spPr>
          <a:xfrm>
            <a:off x="1103400" y="4246560"/>
            <a:ext cx="2967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  <a:ea typeface="Arial"/>
              </a:rPr>
              <a:t>© The McGraw-Hill Companies, Inc./Timothy L. Vacula, photograph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4"/>
          <p:cNvSpPr/>
          <p:nvPr/>
        </p:nvSpPr>
        <p:spPr>
          <a:xfrm>
            <a:off x="4527720" y="1036800"/>
            <a:ext cx="42415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  <a:ea typeface="Arial"/>
              </a:rPr>
              <a:t>Copyright © The McGraw-Hill Companies, Inc. Permission required for reproduction or display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7"/>
          <p:cNvSpPr/>
          <p:nvPr/>
        </p:nvSpPr>
        <p:spPr>
          <a:xfrm>
            <a:off x="4990320" y="6454800"/>
            <a:ext cx="148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8" descr="sal25693_09_12d"/>
          <p:cNvPicPr/>
          <p:nvPr/>
        </p:nvPicPr>
        <p:blipFill>
          <a:blip r:embed="rId2"/>
          <a:stretch/>
        </p:blipFill>
        <p:spPr>
          <a:xfrm>
            <a:off x="4943520" y="1222200"/>
            <a:ext cx="3236760" cy="52228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9"/>
          <p:cNvSpPr/>
          <p:nvPr/>
        </p:nvSpPr>
        <p:spPr>
          <a:xfrm>
            <a:off x="6152760" y="3000240"/>
            <a:ext cx="450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Hi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flex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0"/>
          <p:cNvSpPr/>
          <p:nvPr/>
        </p:nvSpPr>
        <p:spPr>
          <a:xfrm>
            <a:off x="6658920" y="4811760"/>
            <a:ext cx="450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Kn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flex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1"/>
          <p:cNvSpPr/>
          <p:nvPr/>
        </p:nvSpPr>
        <p:spPr>
          <a:xfrm>
            <a:off x="6093360" y="5827680"/>
            <a:ext cx="51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Exten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4"/>
          <p:cNvSpPr/>
          <p:nvPr/>
        </p:nvSpPr>
        <p:spPr>
          <a:xfrm>
            <a:off x="5129280" y="6588000"/>
            <a:ext cx="2967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  <a:ea typeface="Arial"/>
              </a:rPr>
              <a:t>© The McGraw-Hill Companies, Inc./Timothy L. Vacula, photograph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9-</a:t>
            </a:r>
            <a:fld id="{72B2B7AD-2446-4C8D-BC6E-98DEDA4DD73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25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bduction and Ad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22"/>
          <p:cNvSpPr/>
          <p:nvPr/>
        </p:nvSpPr>
        <p:spPr>
          <a:xfrm>
            <a:off x="7035840" y="3781440"/>
            <a:ext cx="203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gure 9.13a,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8" descr="sal25693_09_13"/>
          <p:cNvPicPr/>
          <p:nvPr/>
        </p:nvPicPr>
        <p:blipFill>
          <a:blip r:embed="rId1"/>
          <a:stretch/>
        </p:blipFill>
        <p:spPr>
          <a:xfrm>
            <a:off x="2082960" y="1157400"/>
            <a:ext cx="5043240" cy="2976480"/>
          </a:xfrm>
          <a:prstGeom prst="rect">
            <a:avLst/>
          </a:prstGeom>
          <a:ln w="0">
            <a:noFill/>
          </a:ln>
        </p:spPr>
      </p:pic>
      <p:sp>
        <p:nvSpPr>
          <p:cNvPr id="149" name="TextBox 24"/>
          <p:cNvSpPr/>
          <p:nvPr/>
        </p:nvSpPr>
        <p:spPr>
          <a:xfrm>
            <a:off x="1906560" y="941400"/>
            <a:ext cx="530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2160000" y="4162320"/>
            <a:ext cx="116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(a) Abdu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4557960" y="4162320"/>
            <a:ext cx="117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(b) Addu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4"/>
          <p:cNvSpPr/>
          <p:nvPr/>
        </p:nvSpPr>
        <p:spPr>
          <a:xfrm>
            <a:off x="2516040" y="4419720"/>
            <a:ext cx="4081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© The McGraw-Hill Companies, Inc./Timothy L. Vacula, photograp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9-</a:t>
            </a:r>
            <a:fld id="{F944A6B2-F707-4C1A-A3F1-62D71A1152E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vation and Depr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18600" y="4885920"/>
            <a:ext cx="848700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same pla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6415200" y="4110120"/>
            <a:ext cx="203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gure 9.14a,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9" descr="sal25693_09_14"/>
          <p:cNvPicPr/>
          <p:nvPr/>
        </p:nvPicPr>
        <p:blipFill>
          <a:blip r:embed="rId1"/>
          <a:stretch/>
        </p:blipFill>
        <p:spPr>
          <a:xfrm>
            <a:off x="1668600" y="1171440"/>
            <a:ext cx="5779800" cy="2952720"/>
          </a:xfrm>
          <a:prstGeom prst="rect">
            <a:avLst/>
          </a:prstGeom>
          <a:ln w="0">
            <a:noFill/>
          </a:ln>
        </p:spPr>
      </p:pic>
      <p:sp>
        <p:nvSpPr>
          <p:cNvPr id="159" name="TextBox 24"/>
          <p:cNvSpPr/>
          <p:nvPr/>
        </p:nvSpPr>
        <p:spPr>
          <a:xfrm>
            <a:off x="1727280" y="976320"/>
            <a:ext cx="565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1733760" y="4141800"/>
            <a:ext cx="794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a) Ele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4771080" y="4141800"/>
            <a:ext cx="922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(b)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4"/>
          <p:cNvSpPr/>
          <p:nvPr/>
        </p:nvSpPr>
        <p:spPr>
          <a:xfrm>
            <a:off x="2516040" y="4305240"/>
            <a:ext cx="4081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© The McGraw-Hill Companies, Inc./Timothy L. Vacula, photograp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9-</a:t>
            </a:r>
            <a:fld id="{859E54C3-5618-4E1B-98A6-4FC64286A6D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93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raction and Retr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9" descr="sal25693_09_15"/>
          <p:cNvPicPr/>
          <p:nvPr/>
        </p:nvPicPr>
        <p:blipFill>
          <a:blip r:embed="rId1"/>
          <a:stretch/>
        </p:blipFill>
        <p:spPr>
          <a:xfrm>
            <a:off x="2862360" y="995400"/>
            <a:ext cx="3090600" cy="5284800"/>
          </a:xfrm>
          <a:prstGeom prst="rect">
            <a:avLst/>
          </a:prstGeom>
          <a:ln w="0">
            <a:noFill/>
          </a:ln>
        </p:spPr>
      </p:pic>
      <p:sp>
        <p:nvSpPr>
          <p:cNvPr id="166" name="TextBox 24"/>
          <p:cNvSpPr/>
          <p:nvPr/>
        </p:nvSpPr>
        <p:spPr>
          <a:xfrm>
            <a:off x="2209680" y="784080"/>
            <a:ext cx="452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1"/>
          <p:cNvSpPr/>
          <p:nvPr/>
        </p:nvSpPr>
        <p:spPr>
          <a:xfrm>
            <a:off x="2934000" y="3125880"/>
            <a:ext cx="991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(a) Protr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2"/>
          <p:cNvSpPr/>
          <p:nvPr/>
        </p:nvSpPr>
        <p:spPr>
          <a:xfrm>
            <a:off x="2962440" y="6284880"/>
            <a:ext cx="94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(b) Retr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4786200" y="5872320"/>
            <a:ext cx="203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gure 9.15a,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2724120" y="6465960"/>
            <a:ext cx="4081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© The McGraw-Hill Companies, Inc./Timothy L. Vacula, photograp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9-</a:t>
            </a:r>
            <a:fld id="{57E81A3E-054B-4884-8408-AF4C7B4F961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80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2949480" y="6431040"/>
            <a:ext cx="203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gure 9.17a,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9" descr="sal25693_09_17"/>
          <p:cNvPicPr/>
          <p:nvPr/>
        </p:nvPicPr>
        <p:blipFill>
          <a:blip r:embed="rId1"/>
          <a:stretch/>
        </p:blipFill>
        <p:spPr>
          <a:xfrm>
            <a:off x="2057400" y="1219320"/>
            <a:ext cx="4776840" cy="4633920"/>
          </a:xfrm>
          <a:prstGeom prst="rect">
            <a:avLst/>
          </a:prstGeom>
          <a:ln w="0">
            <a:noFill/>
          </a:ln>
        </p:spPr>
      </p:pic>
      <p:sp>
        <p:nvSpPr>
          <p:cNvPr id="175" name="TextBox 24"/>
          <p:cNvSpPr/>
          <p:nvPr/>
        </p:nvSpPr>
        <p:spPr>
          <a:xfrm>
            <a:off x="2044800" y="1008000"/>
            <a:ext cx="481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4711680" y="5867280"/>
            <a:ext cx="1547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b) Lateral (external) ro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2137320" y="5864400"/>
            <a:ext cx="1523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(a) Medial (internal) ro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24"/>
          <p:cNvSpPr/>
          <p:nvPr/>
        </p:nvSpPr>
        <p:spPr>
          <a:xfrm>
            <a:off x="2436840" y="6027840"/>
            <a:ext cx="4081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© The McGraw-Hill Companies, Inc./Timothy L. Vacula, photograp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9-</a:t>
            </a:r>
            <a:fld id="{41DDDFEF-B108-4EFE-8CA6-433C705F7D3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85640" y="-36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pination and Pro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3467160" y="6041880"/>
            <a:ext cx="203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gure 9.18a,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9" descr="sal25693_09_18"/>
          <p:cNvPicPr/>
          <p:nvPr/>
        </p:nvPicPr>
        <p:blipFill>
          <a:blip r:embed="rId1"/>
          <a:stretch/>
        </p:blipFill>
        <p:spPr>
          <a:xfrm>
            <a:off x="2279520" y="1230480"/>
            <a:ext cx="4554720" cy="4211640"/>
          </a:xfrm>
          <a:prstGeom prst="rect">
            <a:avLst/>
          </a:prstGeom>
          <a:ln w="0">
            <a:noFill/>
          </a:ln>
        </p:spPr>
      </p:pic>
      <p:sp>
        <p:nvSpPr>
          <p:cNvPr id="183" name="TextBox 24"/>
          <p:cNvSpPr/>
          <p:nvPr/>
        </p:nvSpPr>
        <p:spPr>
          <a:xfrm>
            <a:off x="2362320" y="990720"/>
            <a:ext cx="457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2376000" y="545616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a) Sup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4871520" y="5456160"/>
            <a:ext cx="125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b) Pro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4"/>
          <p:cNvSpPr/>
          <p:nvPr/>
        </p:nvSpPr>
        <p:spPr>
          <a:xfrm>
            <a:off x="2471760" y="5786280"/>
            <a:ext cx="4081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Arial"/>
              </a:rPr>
              <a:t>© The McGraw-Hill Companies, Inc./Timothy L. Vacula, photograp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9-</a:t>
            </a:r>
            <a:fld id="{B0C4CBFC-42EE-4AAC-9F5E-EA6DCBDBE97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66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ecial Movements of the Foo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9" name="Group 14"/>
          <p:cNvGrpSpPr/>
          <p:nvPr/>
        </p:nvGrpSpPr>
        <p:grpSpPr>
          <a:xfrm>
            <a:off x="690480" y="1249200"/>
            <a:ext cx="7618320" cy="3414240"/>
            <a:chOff x="690480" y="1249200"/>
            <a:chExt cx="7618320" cy="3414240"/>
          </a:xfrm>
        </p:grpSpPr>
        <p:pic>
          <p:nvPicPr>
            <p:cNvPr id="190" name="Picture 6" descr="T:\Graphics\Powerpoint-MH_DCM-TEXTEDIT\MH_DCM TEXT EDIT\SALADIN-TEXT EDIT\Final files\chapt09\ch09_textedit\jpg\sal25693_09_22.jpg"/>
            <p:cNvPicPr/>
            <p:nvPr/>
          </p:nvPicPr>
          <p:blipFill>
            <a:blip r:embed="rId1"/>
            <a:stretch/>
          </p:blipFill>
          <p:spPr>
            <a:xfrm>
              <a:off x="690480" y="1249200"/>
              <a:ext cx="7618320" cy="314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Rectangle 11"/>
            <p:cNvSpPr/>
            <p:nvPr/>
          </p:nvSpPr>
          <p:spPr>
            <a:xfrm>
              <a:off x="2104920" y="1360080"/>
              <a:ext cx="1017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Dorsiflex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2"/>
            <p:cNvSpPr/>
            <p:nvPr/>
          </p:nvSpPr>
          <p:spPr>
            <a:xfrm>
              <a:off x="990360" y="2593800"/>
              <a:ext cx="7869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Zero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si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14"/>
            <p:cNvSpPr/>
            <p:nvPr/>
          </p:nvSpPr>
          <p:spPr>
            <a:xfrm>
              <a:off x="6541200" y="3543480"/>
              <a:ext cx="974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(c) Ever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5"/>
            <p:cNvSpPr/>
            <p:nvPr/>
          </p:nvSpPr>
          <p:spPr>
            <a:xfrm>
              <a:off x="4308480" y="3543480"/>
              <a:ext cx="1059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(b) Inver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6"/>
            <p:cNvSpPr/>
            <p:nvPr/>
          </p:nvSpPr>
          <p:spPr>
            <a:xfrm>
              <a:off x="2063160" y="4023000"/>
              <a:ext cx="1232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Plantar flex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7"/>
            <p:cNvSpPr/>
            <p:nvPr/>
          </p:nvSpPr>
          <p:spPr>
            <a:xfrm>
              <a:off x="1084320" y="4419720"/>
              <a:ext cx="160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(a) Flexion of ank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20:53:28Z</dcterms:created>
  <dc:creator>Information Technology</dc:creator>
  <dc:description/>
  <dc:language>en-US</dc:language>
  <cp:lastModifiedBy>aj07537</cp:lastModifiedBy>
  <dcterms:modified xsi:type="dcterms:W3CDTF">2010-03-01T17:38:15Z</dcterms:modified>
  <cp:revision>1</cp:revision>
  <dc:subject/>
  <dc:title>Flexion, Extension and Hyperextension</dc:title>
</cp:coreProperties>
</file>